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38E6-F783-4973-8887-C0DC3B17984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63D08-DE4C-4298-AB5F-B5963CDDB3D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0E0A-7E25-4E18-B228-865986389D2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F3BB-0D06-46F7-BFDD-FBF78DA237B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30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F787B-A742-4180-B216-0F80DE22371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2CD0-ADA5-4E0B-8C71-7A2B0A9102B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CBFC-6D61-404D-BBD1-E8902D614A7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1AB6F-9F8F-47F3-A727-3C31F6C26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CD305-A779-49E6-BB2A-AE0C8C5E1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E603FE-E886-4EE8-AFEE-04A075E9A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F017C-82F1-4E17-8932-BC9140846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F20B5-9DB0-4CB8-9CD1-E3959F464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6DB36-8AAA-41C6-B2E9-40D3445D5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AE5AD-1662-481F-9A5D-DF31F8BE0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A40DC-B42B-4ADE-A496-2290BE5DD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9287F-7C42-4620-9C39-0E7F0A729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C4C18-F627-4A41-8233-3C9D4A61A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30283-9319-4411-89DD-FA7CFB567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52689-0A93-4398-BE04-3AC22E99A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65414-BE0F-4BA1-A8C6-E547D859F536}"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30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6-02-07T22:04:44Z</dcterms:modified>
  <cp:revision>23</cp:revision>
  <dc:subject/>
  <dc:title>Languages</dc:title>
</cp:coreProperties>
</file>